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gif" ContentType="image/gi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AAD-A69B-466D-ABD4-38441D74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117-B656-4040-AE92-2DDB32DF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088-F655-4D63-B519-4F2EF8A9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37C-59FA-4DF2-8448-F1A05DAD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7DA-CC76-4FAA-84C4-1A53D388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008E-59A8-4540-8E0F-856B6E8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F4BD-BA93-4FD4-A7E1-3C4B164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CFC0-D83C-4FEB-89FA-98E6F42E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D029-73D3-475E-A8B3-4338D10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AFC-88B6-426F-B925-72834CD1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4AA1-0159-4960-A385-C016BEC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B15-3E50-4B88-A3B6-3A120EFB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B12D-745C-4AB8-A5A4-BCBC91F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092F-44D7-493B-B5CD-9FB88A1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0F72-2EC9-403C-9243-0DEC825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529C-B4CE-4153-8362-14DE5A1E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1ED1-7152-4DA8-A415-3CD906B0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DB78-524D-41FE-B146-D37FA115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2D81-14B2-4EA1-870F-C5ADE7E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7BD3-F7C7-4404-A987-560FE3B0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7691-95BA-4D5E-8EE8-30E4F19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720F-D425-40EA-BE30-84ADB348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955-BED3-4CE0-973F-A4CC8B68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5110-A84A-45E1-8CB0-492963C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5EA0-8ECB-46E3-A3C6-D90724E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7142-64BA-41AD-868B-CDF2CCE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48DE-8DFD-483A-A6F5-6BF82BC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8324-CE52-4DA1-834C-83FF6A3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63D8-E1F7-47EC-816B-726E547B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A56F-051B-4466-BA75-F3B3DB2C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C75D-BB24-44FF-AA9B-14C4ED30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3C9C-066D-4932-9F14-0203690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C47C-E771-4BBB-9747-9AF19FBF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064-4CB0-41DB-BAA3-14BA1BF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CC0A-723E-4BF9-8397-754D8BBC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A145-E807-44FB-8BA9-851336FF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9772-0592-4BB7-8EC3-58594A9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4D14-977C-448D-A597-1463FF9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7CB2-3710-46D8-881C-DCCCA34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0858-5270-4A68-8820-D7B19E3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747A-64AE-48F6-8EAD-CC03407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796A-532B-4301-AC69-AD6D001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2B642-C724-49C4-9B44-938EC9B2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B4D8-263A-40EB-BC53-4866091A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A36-0298-4EAE-A7B6-3677417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6154-CA93-4933-B6AD-5395FD7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F58C-6C34-4047-98E6-5A365C4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D9CF-E894-49BD-95AA-817020BB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58A0-15E0-4DD8-9678-F29D283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2E1A-6013-44C8-AFFD-945D1DAA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85B8-448F-4CCD-A002-62E9F89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0C2C-2FDC-4FC7-B4C1-9BA31BC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BE89-3743-45B4-A2A1-54C6B221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A287-270D-4F15-823D-0DDD72EB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0061-E9AE-498B-B7E3-15B11DB2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C22-BC26-4296-BCC3-5DAB5E80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ACBC-DBF7-4C34-AA01-C140E52F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E32-5EAF-4DB3-8A11-725E327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8D9-420D-40B8-B624-91DB921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244-04F4-48E2-B972-5B59B1C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8E7-E30D-429C-AEF2-CCB7345B2084}" type="datetime">
              <a:rPr b="0" lang="en-US" sz="1400" spc="-1" strike="noStrike">
                <a:solidFill>
                  <a:srgbClr val="e9e5dc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62D-BCEC-4322-B093-D05F031397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0E5-24D3-45A8-BD8F-F9DDC6005F05}" type="datetime">
              <a:rPr b="0" lang="en-US" sz="1400" spc="-1" strike="noStrike">
                <a:solidFill>
                  <a:srgbClr val="e9e5dc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3985-0BCE-49D5-BC7D-AB6DBCA09A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44A-4499-4DB9-9F19-A1F4122F6601}" type="datetime">
              <a:rPr b="0" lang="en-US" sz="1400" spc="-1" strike="noStrike">
                <a:solidFill>
                  <a:srgbClr val="e9e5dc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A61-BEBA-4290-987A-240DC6CF32B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8E51-8AE7-4ABB-BE1B-C4A493A1C8A8}" type="datetime">
              <a:rPr b="0" lang="en-US" sz="1400" spc="-1" strike="noStrike">
                <a:solidFill>
                  <a:srgbClr val="e9e5dc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F626-ECF3-4EB3-8C76-E3382D1D0F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242-9EC6-47A0-9BAD-FEDBF27E22BB}" type="datetime">
              <a:rPr b="0" lang="en-US" sz="1400" spc="-1" strike="noStrike">
                <a:solidFill>
                  <a:srgbClr val="e9e5dc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925E-642C-40C5-9E2D-BCD881CC69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697320" y="533520"/>
            <a:ext cx="22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57200" y="1828800"/>
            <a:ext cx="81532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и систематизация знаний о грамматических признаках глагола</a:t>
            </a: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9776-D593-419F-A962-F1E2688738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755960" y="58402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Вохтинская СОШ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681720" y="5045040"/>
            <a:ext cx="4953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шакова Екатери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из предложенных слов пословицу</a:t>
            </a:r>
            <a:endParaRPr b="0" lang="en-US" sz="44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учает, Театр, этого, толстой, так, как, книге, не сделать</a:t>
            </a:r>
            <a:endParaRPr b="0" lang="en-US" sz="4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DB1B-8EE5-465C-A744-4ECB6870D2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08E-FA3C-4CA0-B2AD-D493E85787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380880" y="310500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поучает так, как этого не сделать толстой книг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789-FBDF-4DF4-9FB9-6AB2763627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Рисунок 2" descr=""/>
          <p:cNvPicPr/>
          <p:nvPr/>
        </p:nvPicPr>
        <p:blipFill>
          <a:blip r:embed="rId1"/>
          <a:stretch/>
        </p:blipFill>
        <p:spPr>
          <a:xfrm>
            <a:off x="603360" y="304920"/>
            <a:ext cx="8007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75D-978A-430B-A773-ACA8C76C78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" descr="img12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567"/>
          <p:cNvPicPr/>
          <p:nvPr/>
        </p:nvPicPr>
        <p:blipFill>
          <a:blip r:embed="rId1"/>
          <a:stretch/>
        </p:blipFill>
        <p:spPr>
          <a:xfrm>
            <a:off x="534960" y="3600360"/>
            <a:ext cx="3046320" cy="2800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0028"/>
          <p:cNvPicPr/>
          <p:nvPr/>
        </p:nvPicPr>
        <p:blipFill>
          <a:blip r:embed="rId2"/>
          <a:stretch/>
        </p:blipFill>
        <p:spPr>
          <a:xfrm>
            <a:off x="6477120" y="685800"/>
            <a:ext cx="1798560" cy="1627200"/>
          </a:xfrm>
          <a:prstGeom prst="rect">
            <a:avLst/>
          </a:prstGeom>
          <a:ln w="0">
            <a:noFill/>
          </a:ln>
        </p:spPr>
      </p:pic>
      <p:pic>
        <p:nvPicPr>
          <p:cNvPr id="282" name="TextBox 3" descr=""/>
          <p:cNvPicPr/>
          <p:nvPr/>
        </p:nvPicPr>
        <p:blipFill>
          <a:blip r:embed="rId3"/>
          <a:stretch/>
        </p:blipFill>
        <p:spPr>
          <a:xfrm>
            <a:off x="689040" y="2535120"/>
            <a:ext cx="7961400" cy="1165320"/>
          </a:xfrm>
          <a:prstGeom prst="rect">
            <a:avLst/>
          </a:prstGeom>
          <a:ln w="0">
            <a:noFill/>
          </a:ln>
        </p:spPr>
      </p:pic>
      <p:sp>
        <p:nvSpPr>
          <p:cNvPr id="283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DDC8-5EFD-4A7F-8B05-7E01F1E973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706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самооценки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я д/з</a:t>
            </a:r>
            <a:endParaRPr b="0" lang="en-US" sz="4800" spc="-1" strike="noStrike">
              <a:solidFill>
                <a:srgbClr val="e9e5dc"/>
              </a:solidFill>
              <a:latin typeface="Franklin Gothic Boo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03360" y="1905120"/>
          <a:ext cx="8235720" cy="4787640"/>
        </p:xfrm>
        <a:graphic>
          <a:graphicData uri="http://schemas.openxmlformats.org/drawingml/2006/table">
            <a:tbl>
              <a:tblPr/>
              <a:tblGrid>
                <a:gridCol w="6680160"/>
                <a:gridCol w="731880"/>
                <a:gridCol w="823680"/>
              </a:tblGrid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Я сделал д/з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Я сразу понял что требуется сдела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У меня не возникло трудностей при выполнен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Я выполнил все грамматические зад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Я проверил свою работу, исправил ошиб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Я работу выполнил старательно, аккуратн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239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BFC-E17B-46CD-A40D-FCB9392727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КИ</a:t>
            </a:r>
            <a:endParaRPr b="0" lang="en-US" sz="48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а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а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0FE5-C60A-443D-9DE9-037B54CCEB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9e5dc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5800" y="195120"/>
          <a:ext cx="8001000" cy="6243840"/>
        </p:xfrm>
        <a:graphic>
          <a:graphicData uri="http://schemas.openxmlformats.org/drawingml/2006/table">
            <a:tbl>
              <a:tblPr/>
              <a:tblGrid>
                <a:gridCol w="5486400"/>
                <a:gridCol w="1523880"/>
                <a:gridCol w="990720"/>
              </a:tblGrid>
              <a:tr h="177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ОЧНЫЙ ЛИ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ния и навы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итаю, что уме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 уме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Выделять глаголы среди других частей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исать глаголы с частицей Н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пределять число глагол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Определять время глагол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7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Изменять глаголы прошлого времени по род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</a:tbl>
          </a:graphicData>
        </a:graphic>
      </p:graphicFrame>
      <p:sp>
        <p:nvSpPr>
          <p:cNvPr id="245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C684-51B4-4D41-B04A-E069A3A815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5" descr=""/>
          <p:cNvPicPr/>
          <p:nvPr/>
        </p:nvPicPr>
        <p:blipFill>
          <a:blip r:embed="rId1"/>
          <a:stretch/>
        </p:blipFill>
        <p:spPr>
          <a:xfrm>
            <a:off x="8153280" y="58579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1" descr=""/>
          <p:cNvPicPr/>
          <p:nvPr/>
        </p:nvPicPr>
        <p:blipFill>
          <a:blip r:embed="rId2"/>
          <a:stretch/>
        </p:blipFill>
        <p:spPr>
          <a:xfrm>
            <a:off x="8155080" y="49528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2" descr=""/>
          <p:cNvPicPr/>
          <p:nvPr/>
        </p:nvPicPr>
        <p:blipFill>
          <a:blip r:embed="rId3"/>
          <a:stretch/>
        </p:blipFill>
        <p:spPr>
          <a:xfrm>
            <a:off x="8155080" y="43527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3" descr=""/>
          <p:cNvPicPr/>
          <p:nvPr/>
        </p:nvPicPr>
        <p:blipFill>
          <a:blip r:embed="rId4"/>
          <a:stretch/>
        </p:blipFill>
        <p:spPr>
          <a:xfrm>
            <a:off x="8153280" y="36068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4" descr=""/>
          <p:cNvPicPr/>
          <p:nvPr/>
        </p:nvPicPr>
        <p:blipFill>
          <a:blip r:embed="rId5"/>
          <a:stretch/>
        </p:blipFill>
        <p:spPr>
          <a:xfrm>
            <a:off x="8153280" y="251460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1"/>
          <p:cNvSpPr/>
          <p:nvPr/>
        </p:nvSpPr>
        <p:spPr>
          <a:xfrm>
            <a:off x="7556400" y="12323880"/>
            <a:ext cx="1126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Рисунок 6" descr=""/>
          <p:cNvPicPr/>
          <p:nvPr/>
        </p:nvPicPr>
        <p:blipFill>
          <a:blip r:embed="rId6"/>
          <a:stretch/>
        </p:blipFill>
        <p:spPr>
          <a:xfrm>
            <a:off x="6765840" y="2576520"/>
            <a:ext cx="122400" cy="1224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"/>
          <p:cNvPicPr/>
          <p:nvPr/>
        </p:nvPicPr>
        <p:blipFill>
          <a:blip r:embed="rId7"/>
          <a:stretch/>
        </p:blipFill>
        <p:spPr>
          <a:xfrm>
            <a:off x="6797520" y="366876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8" descr=""/>
          <p:cNvPicPr/>
          <p:nvPr/>
        </p:nvPicPr>
        <p:blipFill>
          <a:blip r:embed="rId8"/>
          <a:stretch/>
        </p:blipFill>
        <p:spPr>
          <a:xfrm>
            <a:off x="6827760" y="576756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"/>
          <p:cNvPicPr/>
          <p:nvPr/>
        </p:nvPicPr>
        <p:blipFill>
          <a:blip r:embed="rId9"/>
          <a:stretch/>
        </p:blipFill>
        <p:spPr>
          <a:xfrm>
            <a:off x="6797520" y="5029200"/>
            <a:ext cx="120960" cy="1224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0" descr=""/>
          <p:cNvPicPr/>
          <p:nvPr/>
        </p:nvPicPr>
        <p:blipFill>
          <a:blip r:embed="rId10"/>
          <a:stretch/>
        </p:blipFill>
        <p:spPr>
          <a:xfrm>
            <a:off x="6797520" y="4446720"/>
            <a:ext cx="120960" cy="1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849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272880" indent="0">
              <a:lnSpc>
                <a:spcPct val="11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йте слова и подчеркните глаголы.</a:t>
            </a:r>
            <a:br>
              <a:rPr sz="4800"/>
            </a:br>
            <a:endParaRPr b="0" lang="en-US" sz="48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3360" y="2209680"/>
            <a:ext cx="8083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11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ёр, приятный,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рога, хмурый, ласковый,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ход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атр, знания,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авнива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селый, приятный, сцена,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ма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тёр, действие,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сужда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28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690-EFCA-4F98-BF67-7F622F6512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5662-A845-4B8D-A7B5-5E55DC93BC7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304920" y="685800"/>
            <a:ext cx="853416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just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медвежонок (упасть) с обрыва. Он (попасть) в сеть. Малыш жалобно (стонать). Рядом (проходить) лесники. Они (услышать) стон, (подбежать) и (освободить) беднягу. Медвежонка (приносить) дом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637-48B9-4C7E-A3AE-3FD9E6A1D8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1295280" y="304920"/>
            <a:ext cx="6858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медвежонок упал(ед.ч.) с обрыва. Он попал(ед.ч.) в сеть. Малыш жалобно стонал(ед.ч.). Рядом проходили(мн.ч.) лесники. Они услышали(мн.ч.) стон, подбежали(мн.ч.) и освободили(мн.ч.) беднягу. Медвежонка принесли(мн.ч.) дом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ремени глагола 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1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настоящего времени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ядьте;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 marL="261720" indent="-261720">
              <a:lnSpc>
                <a:spcPct val="11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прошедшего времени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итесь назад;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 marL="261720" indent="-261720">
              <a:lnSpc>
                <a:spcPct val="11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будущего времени – 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 marL="261720" indent="-261720">
              <a:lnSpc>
                <a:spcPct val="11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на месте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12EC-FCC6-4D2D-AB5D-9216A2CC06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9A89-B3E4-462F-B2DB-175872C5BD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1295280" y="304920"/>
            <a:ext cx="6858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медвежонок упал с обрыва. Он попал в сеть. Малыш жалобно стонал. Рядом проходили лесники. Они услышали стон, подбежали и освободили беднягу. Медвежонка принесли дом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Y</dc:creator>
  <dc:description/>
  <dc:language>en-US</dc:language>
  <cp:lastModifiedBy>Пользователь Windows</cp:lastModifiedBy>
  <dcterms:modified xsi:type="dcterms:W3CDTF">2019-03-13T21:07:19Z</dcterms:modified>
  <cp:revision>80</cp:revision>
  <dc:subject/>
  <dc:title>Слайд 1</dc:title>
</cp:coreProperties>
</file>